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4270-0789-4F17-AB3F-464B6B6F9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343D-9E8D-4C97-9EDC-E35D8D29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B79E-32FB-4282-AEEE-506E03632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49AF-83CA-41AC-9697-81FE7E75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30C6-DA5E-48A9-A007-18D6D07BD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F087-6CE9-4D05-941A-ABF0F791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6A24-4D9B-4071-BBE0-83003215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52E5-3C37-4DC1-B0D5-AF7322F6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679D-33EC-4E85-B93F-FD075E13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5912-C865-445A-BF74-86B945AF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12D7-5281-482E-9107-8079B461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8BAF-C114-44A5-A7A1-CAA9AD45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860A-99DB-4FFA-B28B-8BCA38A1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964F-603C-46B1-B63F-F6C4C3B2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3064-20D0-416C-A367-E2788FBF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9BF7-E1A7-4CE4-AC98-DC6CAE306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1633-9A87-4474-9725-5143EC93C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9F64-A897-4B46-8610-7B6512FA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6F21-DD75-481C-9BEC-90E90B81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AC96-9944-4DA9-BCA6-C0E039C2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EA6E-4B97-4F1C-ACC7-1F778DB5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6F08-183D-41A2-85B0-FA69993F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06A9-3CC9-44B5-B10D-8A39CBEC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DA21-5E06-4EF9-B939-3C716C6B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49C8-6387-4F03-BC53-F333E38BAF23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4D88-D266-4BC9-B4E6-0B0942237A2D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Lucida Grande"/>
              </a:rPr>
              <a:t>Windows Movie Maker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/6-12/Session 2 of 3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shop Titl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27560" y="247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Lucida Grande"/>
              </a:rPr>
              <a:t>Students will share the following aspects of their project: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Lucida Grande"/>
              </a:rPr>
              <a:t>Explain how the choices you have made regarding the title animations, fonts, and transitions have enhanced your movie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does this work address the </a:t>
            </a:r>
            <a:br>
              <a:rPr sz="3600"/>
            </a:b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questions that began the session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e have seen how the choices we make as editors can effect the story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e have observed how title sequences, and transitions can add to or subtract from the overall impact of a movie.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How can we customize our movie using titles, transitions, and video effects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How do we import digital images into </a:t>
            </a:r>
            <a:r>
              <a:rPr b="0" lang="en-US" sz="2400" spc="-1" strike="noStrike">
                <a:solidFill>
                  <a:srgbClr val="212164"/>
                </a:solidFill>
                <a:latin typeface="Lucida Grande"/>
              </a:rPr>
              <a:t>Windows Movie Maker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look and feel of our movie can be affected by the title sequence and transitions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s lesson will focus on the following skills: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Creating opening and closing title sequences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Importing digital still images into Movie Maker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dding transitions between scenes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hat are possible sources of digital images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 digital camera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Online download (www.pics4learning.org)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Scanning a digital picture into the computer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How can titles and transitions enhance a movie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oday’s skill will focus on: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Importing digital pictures into Movie Maker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Creating a title sequenc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Creating transition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Lucida Grande"/>
              </a:rPr>
              <a:t>(see the tutorial for lesson 2 for specific directions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   </a:t>
            </a:r>
            <a:r>
              <a:rPr b="0" lang="en-US" sz="2400" spc="-1" strike="noStrike">
                <a:solidFill>
                  <a:srgbClr val="212164"/>
                </a:solidFill>
                <a:latin typeface="Lucida Grande"/>
              </a:rPr>
              <a:t>Take the next 30 minutes to import still images into Movie Maker. Add titles and transitions to your movies. After 30 minutes we will come back together and share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2164"/>
                </a:solidFill>
                <a:latin typeface="Lucida Grande"/>
              </a:rPr>
              <a:t>Participant Activity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Lucida Grande"/>
              </a:rPr>
              <a:t>Connect the digital still camera to the computer (if available)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Lucida Grande"/>
              </a:rPr>
              <a:t>Download and save the sample digital pictures. (web)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Lucida Grande"/>
              </a:rPr>
              <a:t>Import digital pictures into Movie Maker and include two pictures in your movie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Lucida Grande"/>
              </a:rPr>
              <a:t>Add titles and transitions to your movie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1599"/>
              </a:spcAft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Lucida Grande"/>
              </a:rPr>
              <a:t>Save your Movie Maker project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02:24:10Z</dcterms:created>
  <dc:creator>NYCD DOE</dc:creator>
  <dc:description/>
  <dc:language>en-US</dc:language>
  <cp:lastModifiedBy>NYCD DOE</cp:lastModifiedBy>
  <dcterms:modified xsi:type="dcterms:W3CDTF">2007-03-11T19:19:53Z</dcterms:modified>
  <cp:revision>34</cp:revision>
  <dc:subject/>
  <dc:title>Workshop Title</dc:title>
</cp:coreProperties>
</file>